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B4A-38E1-433B-B1F2-2C1B9269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397-5177-4619-ACD0-6155E5F3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E00-8FA5-4373-8CA8-AFBC4419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CE8D-1307-41E8-B9BB-F05533B3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7964-CDAA-4AFD-AC96-BC4DF7E7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B5E4-3E61-499B-9AF9-A082143C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DF02-B264-49E7-9B72-927F0AEE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C8C0-3CD8-4283-AD26-EF4D1D9A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3B52-3A02-4E45-87C5-225BDCA1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765D-9315-4859-A2C8-FDDB976F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5981-687F-4188-AAFD-84E1494E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0B6-F9F7-45E2-8E0D-2FE033D1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AC84-FD4B-403D-8972-0C74FF62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2647-5AFE-4628-9FA8-FEC45081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1E8F-A892-42A3-B2B8-152B12EE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3DFB-1974-4042-966E-82639EEC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ADCC-507E-46BB-8633-6B9D5C95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FB74B-4076-49C9-AF01-3B32FB0D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281C7-AA8A-404D-A0E9-DD8CF511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277A3-C2A7-42D6-BE34-43E54CA2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F7CAC-E8DA-40F3-8456-0DFCE03B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E85D5-3B2A-449B-9DD0-CE5E00A1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F5D5-1563-420E-B103-EAAA3EFA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C450B-AB73-4EB2-9E78-0831A96D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C73AA-2B7C-4BF6-80FD-011DF526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1B42F-F535-405F-991D-2E459144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D7755-81D8-4F8C-A380-5E9122A7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5FD6F-1092-445E-9C3A-C5624B5D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2A28E-5454-4121-A20B-744BC8E6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71F23-28ED-4FC4-B7A8-10E9A650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4412A-96CB-4788-83BD-77AC5EB3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A1296-2868-45AA-AD62-8BC40842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7A893-6883-4E9E-81CE-96B5B0B4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7400-FE55-4CE6-8809-893E3AB8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DED94-BE91-498B-B3E3-6624B575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EFD80-D8BF-41E3-AE9F-8F30A8C4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AEAF5-324E-4449-A713-8C989492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27161-ECE1-49F3-A54E-4388D217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FCDBA-669A-42F3-9914-AAA11B23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D4FE3-3AF7-479A-87E0-9751BFD4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14327-4E60-4765-904D-599ED906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D10C9-BBDA-4097-ADAA-674CF5C8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EBBEB-7F30-4E76-A604-9C61E6E2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9625-B694-4DBF-A874-B5BCBD9E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B25-84A3-4291-B1DB-89976606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0CF8-2337-404E-86E7-0B66D798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0F9-227A-4815-9186-F42015C4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1AC-FC20-42E9-9A74-A78F8316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BD4C-B562-4152-9066-4FC754906AD5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1815-9A1E-49AB-B699-9D622DBB58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0755-3FC7-49CA-BE71-B289A1A292C1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7BB2-6A81-48B2-9785-F7557C3B14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9280" y="3860280"/>
            <a:ext cx="3961080" cy="1800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период  вой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ец 1943г. – 8 мая 1945г 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2339640" y="549000"/>
            <a:ext cx="6118200" cy="28796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сновные события Великой Отечественной войны. 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7640" y="189000"/>
            <a:ext cx="6049800" cy="19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 Black"/>
              </a:rPr>
              <a:t>Третий период войны  - завершение коренного перелома в войне, освобождение территории СССР и стран Европы от фашистских захватчиков. 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484360" y="2205000"/>
            <a:ext cx="635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 Black"/>
              </a:rPr>
              <a:t>Основные событи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Снятие блокады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Ленинград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Освобождение Белорусси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Освобождение стран Европы от фашистского гнета и окончательный разгром фашистской Германи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Битва за Берлин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37" name="Picture 5" descr="05S0083i"/>
          <p:cNvPicPr/>
          <p:nvPr/>
        </p:nvPicPr>
        <p:blipFill>
          <a:blip r:embed="rId1"/>
          <a:stretch/>
        </p:blipFill>
        <p:spPr>
          <a:xfrm>
            <a:off x="352440" y="2565360"/>
            <a:ext cx="24112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Снятие блокады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Ленинград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58920" y="1599840"/>
            <a:ext cx="5779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 Black"/>
              </a:rPr>
              <a:t>Дата: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27 января 1944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 г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 Black"/>
              </a:rPr>
              <a:t>Значение: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снятие  блокады и дальнейшее наступление в Карелии привело к тому, что войска советской армии вступили на территорию Финляндии, после чего она разорвал союз с Германией и заключила перемирие с СССР.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Ленинграде в период фашистской блокады от голода умерли не менее 800 тысяч человек.</a:t>
            </a:r>
            <a:br>
              <a:rPr sz="1800"/>
            </a:b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Arial Black"/>
              </a:rPr>
              <a:t>И  в ночи январской, беззвездной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Arial Black"/>
              </a:rPr>
              <a:t>Сам дивясь небывалой судьбе,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Arial Black"/>
              </a:rPr>
              <a:t>Возвращенный из смертной бездны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Arial Black"/>
              </a:rPr>
              <a:t>Ленинград салютует себе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 Black"/>
              </a:rPr>
              <a:t>                                                   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Анна Ахматова. «27 января 1944 г.»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0" name="Picture 6" descr="0056fot7i"/>
          <p:cNvPicPr/>
          <p:nvPr/>
        </p:nvPicPr>
        <p:blipFill>
          <a:blip r:embed="rId1"/>
          <a:stretch/>
        </p:blipFill>
        <p:spPr>
          <a:xfrm>
            <a:off x="231840" y="3500280"/>
            <a:ext cx="2755800" cy="30672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C:\Users\НЮ\Desktop\Без названия (5).jpg"/>
          <p:cNvPicPr/>
          <p:nvPr/>
        </p:nvPicPr>
        <p:blipFill>
          <a:blip r:embed="rId2"/>
          <a:stretch/>
        </p:blipFill>
        <p:spPr>
          <a:xfrm>
            <a:off x="179280" y="1268280"/>
            <a:ext cx="250524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14240" y="228600"/>
            <a:ext cx="3809880" cy="24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Марк Павлович Васякин 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(1908-1944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0920" y="3124080"/>
            <a:ext cx="82278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одился в Ставрополе. Летчик.  Герой Советского Союз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В годы войны  защищал небо блокадного Ленинграда, командуя 2-й эскадрильей 411-го авиаполка.  Увидев его самолет в небе, фашисты спешили предупредить друг друга в радиоэфире «Ахтунг, Ахтунг, Васякин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Участвовал в освобождении Прибалтики.  Погиб в боях за г. Либаву (ныне Лиепая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4" name="Picture 2" descr="васякин"/>
          <p:cNvPicPr/>
          <p:nvPr/>
        </p:nvPicPr>
        <p:blipFill>
          <a:blip r:embed="rId1"/>
          <a:stretch/>
        </p:blipFill>
        <p:spPr>
          <a:xfrm>
            <a:off x="395280" y="260280"/>
            <a:ext cx="2101680" cy="27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свобождение Белоруссии- операция «Багратион»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311640" y="1600200"/>
            <a:ext cx="5527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 Black"/>
              </a:rPr>
              <a:t>Дата: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23 июня- 28 августа 1944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 г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 Black"/>
              </a:rPr>
              <a:t>Значение: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были созданы условия для нанесения  мощных ударов по немецким группировкам  в  Прибалтике,                     Восточной Пруссии и Польше.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Операция была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приурочена к открытию союзниками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второго фронта в Европе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 Black"/>
              </a:rPr>
              <a:t>6 июня 1944 г.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на территории Франции в Нормандии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7" name="Picture 5" descr="314ai"/>
          <p:cNvPicPr/>
          <p:nvPr/>
        </p:nvPicPr>
        <p:blipFill>
          <a:blip r:embed="rId1"/>
          <a:stretch/>
        </p:blipFill>
        <p:spPr>
          <a:xfrm>
            <a:off x="179280" y="2637000"/>
            <a:ext cx="3132360" cy="23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на освобождения Европы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250920" y="1600200"/>
            <a:ext cx="8588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Всего около 9 млн. советских воинов участвовали в освобождении 11 европейских стран. Безвозвратные потери Красной армии при освобождении государств Европы составили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в Польше - 600212 человек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в Чехословакии - 139918 человек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в Венгрии - 140004 человек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в Германии - 101961 человек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в Румынии - 68993 человек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в Австрии - 26006 человек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в Югославии - 7995 человек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в Норвегии - 3436 человек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в Болгарии - 977 человек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0" name="Picture 2" descr="C:\Users\НЮ\Desktop\TASS_319511-e1462813953229.jpg"/>
          <p:cNvPicPr/>
          <p:nvPr/>
        </p:nvPicPr>
        <p:blipFill>
          <a:blip r:embed="rId1"/>
          <a:stretch/>
        </p:blipFill>
        <p:spPr>
          <a:xfrm>
            <a:off x="5148360" y="4437000"/>
            <a:ext cx="369396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65240" y="301320"/>
            <a:ext cx="649296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Цена освобожден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Европы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85800" y="2269800"/>
            <a:ext cx="7772400" cy="38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Всего было освобождено около 50% европейских государств. Совокупное население освобожденных нашей армией стран составило более 120 000 000 человек. 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полях за Вислой сонной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Лежат в земле сырой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ерёжка с Малой Бронной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И Витька с Моховой.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Но помнит мир спасённый,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Мир вечный, мир живой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ерёжку с Малой Бронной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И Витьку с Моховой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Arial Black"/>
              </a:rPr>
              <a:t>            </a:t>
            </a:r>
            <a:r>
              <a:rPr b="1" i="1" lang="ru-RU" sz="1600" spc="-1" strike="noStrike">
                <a:solidFill>
                  <a:srgbClr val="ffcc00"/>
                </a:solidFill>
                <a:latin typeface="Arial Black"/>
              </a:rPr>
              <a:t>Е. Винокуров. Москвичи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3" name="Picture 2" descr="C:\Users\НЮ\Desktop\Без названия.jpg"/>
          <p:cNvPicPr/>
          <p:nvPr/>
        </p:nvPicPr>
        <p:blipFill>
          <a:blip r:embed="rId1"/>
          <a:stretch/>
        </p:blipFill>
        <p:spPr>
          <a:xfrm>
            <a:off x="6372360" y="4653000"/>
            <a:ext cx="2371680" cy="19335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C:\Users\НЮ\Desktop\TASS_319511-e1462813953229.jpg"/>
          <p:cNvPicPr/>
          <p:nvPr/>
        </p:nvPicPr>
        <p:blipFill>
          <a:blip r:embed="rId2"/>
          <a:stretch/>
        </p:blipFill>
        <p:spPr>
          <a:xfrm>
            <a:off x="179280" y="189000"/>
            <a:ext cx="293364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Битва за Берлин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916360" y="1916280"/>
            <a:ext cx="5922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 Black"/>
              </a:rPr>
              <a:t>Дата: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16 апреля - 8 мая 1945 г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 Black"/>
              </a:rPr>
              <a:t>Значение: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Разгром основных сил фашистской Германии привел к капитуляции ее армии и завершению Великой Отечественной войны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i="1" lang="ru-RU" sz="2000" spc="-1" strike="noStrike">
                <a:solidFill>
                  <a:srgbClr val="ffcc00"/>
                </a:solidFill>
                <a:latin typeface="Arial Black"/>
              </a:rPr>
              <a:t>Над рейхстагом знамя                                       Тёплою зарницею - </a:t>
            </a:r>
            <a:br>
              <a:rPr sz="2000"/>
            </a:br>
            <a:r>
              <a:rPr b="0" i="1" lang="ru-RU" sz="2000" spc="-1" strike="noStrike">
                <a:solidFill>
                  <a:srgbClr val="ffcc00"/>
                </a:solidFill>
                <a:latin typeface="Arial Black"/>
              </a:rPr>
              <a:t>Тает дым пороховой.</a:t>
            </a:r>
            <a:br>
              <a:rPr sz="2000"/>
            </a:br>
            <a:r>
              <a:rPr b="0" i="1" lang="ru-RU" sz="2000" spc="-1" strike="noStrike">
                <a:solidFill>
                  <a:srgbClr val="ffcc00"/>
                </a:solidFill>
                <a:latin typeface="Arial Black"/>
              </a:rPr>
              <a:t>На последней огневой позиции</a:t>
            </a:r>
            <a:br>
              <a:rPr sz="2000"/>
            </a:br>
            <a:r>
              <a:rPr b="0" i="1" lang="ru-RU" sz="2000" spc="-1" strike="noStrike">
                <a:solidFill>
                  <a:srgbClr val="ffcc00"/>
                </a:solidFill>
                <a:latin typeface="Arial Black"/>
              </a:rPr>
              <a:t>Пал боец - к ступеням головой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                               </a:t>
            </a:r>
            <a:r>
              <a:rPr b="1" i="1" lang="ru-RU" sz="1600" spc="-1" strike="noStrike">
                <a:solidFill>
                  <a:srgbClr val="ffcc00"/>
                </a:solidFill>
                <a:latin typeface="Arial Black"/>
              </a:rPr>
              <a:t>И. Кашпуров. Пять тополей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7" name="Picture 7" descr="C:\Users\НЮ\Desktop\images (1).jpg"/>
          <p:cNvPicPr/>
          <p:nvPr/>
        </p:nvPicPr>
        <p:blipFill>
          <a:blip r:embed="rId1"/>
          <a:stretch/>
        </p:blipFill>
        <p:spPr>
          <a:xfrm>
            <a:off x="395280" y="1197000"/>
            <a:ext cx="2492280" cy="366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09:21:02Z</dcterms:created>
  <dc:creator>Home</dc:creator>
  <dc:description/>
  <dc:language>en-US</dc:language>
  <cp:lastModifiedBy>НЮ</cp:lastModifiedBy>
  <dcterms:modified xsi:type="dcterms:W3CDTF">2019-10-26T16:23:01Z</dcterms:modified>
  <cp:revision>29</cp:revision>
  <dc:subject/>
  <dc:title>Оконный  комбинат   «Светоч» (Ставрополь) </dc:title>
</cp:coreProperties>
</file>